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12193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dt" idx="19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sldImg"/>
          </p:nvPr>
        </p:nvSpPr>
        <p:spPr>
          <a:xfrm>
            <a:off x="90360" y="744120"/>
            <a:ext cx="66168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ftr" idx="20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 type="sldNum" idx="21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778DE-B3A5-494D-91ED-AE02AE88A2A2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Espaço Reservado para Número de Slid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93B66-0C70-4657-AABF-4026329487CE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Espaço Reservado para Número de Slid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B1CA8-13DB-4FC5-B85A-1FC4DBE5530B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D5D9-2676-41AB-88CE-555406D2E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1EE5-59EA-495A-A63B-152DE3560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DE2A-CC3D-40B0-B4BF-9FC97B731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1F65-CC2F-4718-94B9-53C3F6361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3B0BF-23E9-4D74-8809-B74E15489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2FEE3-5CFD-4BCE-BD87-53B180D9B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AC0D7-27F6-40E6-8B5B-01660D904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79D7A-5F61-4DC6-90BA-B301BEFFE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1E5D3-13B3-4ACA-A640-E62AF1819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82D35-9505-4447-A31B-9A83C8B6A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37401-B7B5-4293-AB28-6269CAC35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3FB9-4492-421B-ACEE-F89AA0296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3C9B5-81F5-462D-B533-9D4F5163E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11947-51A5-42F8-BFA4-ED65E7FAB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5C118-2C63-4059-B793-E928B9D52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04EFF-20B8-4996-8356-300BD0E49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E5BC4-0EB3-4388-B903-AE6C26CD0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30FBEA-FECA-4346-9893-5ECE0800D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6D8624-F4EC-4F80-B2BE-9BD5663D5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559CCF-D68F-4927-B2DD-6B7FF216A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37954F-4A12-4E54-9851-A6D46F56E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96FA8C-A805-44E9-8AB4-BE9A8A907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5FE4-F37C-468E-9684-C58F08CF9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A087EB-254C-4683-9ED3-327C1DD37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99C97C-A970-4A70-8DBA-43C7386D2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1B0060-31D1-4D0A-A2A4-B58B44CC4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0CF680-408B-478F-A64E-96A366EA0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F76C97-18FC-4E35-A5E7-19D7D7534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A9C587-417B-4AE5-97BC-8AEC872DB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DF7379-9A1B-4E40-8236-8C6A35B7A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30B66C-6973-405A-9A3D-9C487CAC2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CF0551-DF29-44FF-8946-3B1161E7C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085C17-4C83-4BC8-9923-E898529B2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6ACA-D43C-4B27-8E12-C64616C9C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E96BD9-BF9C-4C1B-99DC-8A62DD95E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0A60A1-FF35-4677-8882-9A6CD239E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DF70AD-BFFC-4250-B7D8-2D60BE249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D7EF5D-99DB-4DAB-B6CE-74708B8E8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5FFE17-808D-4161-8A6E-3702EE097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62DBDF-44CF-4C74-8DB3-1A49F20A9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EEB1C6-6848-45D1-9A0D-7D985DBEE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C0959C-3ED5-4576-8A79-F1942B200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7C79C3-A67D-49F6-87B9-859D89A18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38FDD4-FE87-431F-9903-A6C3C45A6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E6FC-1F40-4EDB-9B98-2EB3A4192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70FB52-4A9F-4C8F-8A6C-EBADD607C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B73687-CF7A-4CD2-8B59-A4ABC4E16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6A973B-A873-4FB0-AC2B-F54CFA3FA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3894AA-5E38-4AC5-AAD6-B3B7E0E6B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E5E7EA-B846-4BF3-B6B3-13C590243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E63B4A-62A1-4A46-AB38-F9697ED2B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0516A3-49B8-4E59-83F2-BA6BC4526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C5F90E-8BF2-49FF-BAA5-128EC2A3D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E617B7-A45C-4F1D-8B1D-B0F35E821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9D6F55-8479-4CAC-AB38-2C60AD52D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349A-B5D3-48CF-812E-E638D290D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9B0120-6162-4F66-8381-FC1555D65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F84924-2613-474F-A8B7-21071D7E7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BD3482-03C5-4395-A9E5-5CA4AEF83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D8E968-39B1-4F76-A74B-E70BD0B45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A4411D-BA9A-40F2-9DDA-FE7A8577D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D4C941-E695-42FC-809F-E3FF228E1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AAAACF-0971-44F0-AB43-D40C8C55D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FB2082-391B-49EB-8325-0900863BD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6BAFEA-F8B4-4D62-90BB-22F885FDA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BCC810-1EDF-493B-9198-9DE1AB94E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5751-D8B1-47C4-98EA-91114FCCE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8A70F4-6994-4EBE-B1F1-77F0D9C33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C9B695-2661-4538-BEA4-65CF3F7C7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2C04C0-C4B5-4434-B277-8279FE0AB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1E5E-2418-47D0-A098-4F9BE5D71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0241-8D7F-477D-9F29-E7253DD6C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F8362-6785-45AF-88CD-18CA296F6079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3748B-9580-409F-8DCA-37C4CCADDFA8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B9691-87B9-4BB0-93C2-291DA205E1AA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C0927-616A-423D-8319-542CF0E58542}" type="slidenum">
              <a:rPr b="1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6B513-F8A2-4917-905A-804F7BE4985B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DAD33-3920-4C70-A930-A10ABE27E4AF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24188-0D97-4A8B-86E9-DD4EABAE0B51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9A869-039F-449F-955D-A531FE817824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  <p:sp>
        <p:nvSpPr>
          <p:cNvPr id="179" name="Retângulo 9"/>
          <p:cNvSpPr/>
          <p:nvPr/>
        </p:nvSpPr>
        <p:spPr>
          <a:xfrm>
            <a:off x="11106000" y="6356520"/>
            <a:ext cx="384480" cy="501480"/>
          </a:xfrm>
          <a:prstGeom prst="rect">
            <a:avLst/>
          </a:prstGeom>
          <a:solidFill>
            <a:srgbClr val="92d05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3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265B9-256C-44FE-AFD9-46150272F364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4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5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FCAB6-424A-4EEF-91F7-8BFCBCCB5A58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2424F-BAAD-4B0C-830D-A9226C262940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9F875-2CCD-439E-8B10-D56F49BBFD6F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2" descr="Figura2"/>
          <p:cNvPicPr/>
          <p:nvPr/>
        </p:nvPicPr>
        <p:blipFill>
          <a:blip r:embed="rId1"/>
          <a:stretch/>
        </p:blipFill>
        <p:spPr>
          <a:xfrm>
            <a:off x="2208240" y="1189080"/>
            <a:ext cx="7543800" cy="5192640"/>
          </a:xfrm>
          <a:prstGeom prst="rect">
            <a:avLst/>
          </a:prstGeom>
          <a:ln w="0">
            <a:noFill/>
          </a:ln>
        </p:spPr>
      </p:pic>
      <p:sp>
        <p:nvSpPr>
          <p:cNvPr id="273" name="Text Box 3"/>
          <p:cNvSpPr/>
          <p:nvPr/>
        </p:nvSpPr>
        <p:spPr>
          <a:xfrm>
            <a:off x="2567160" y="1413000"/>
            <a:ext cx="6933960" cy="49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000000"/>
                </a:solidFill>
                <a:latin typeface="Arial"/>
              </a:rPr>
              <a:t>RESULTADO DO REGIME GERAL DE PREVIDÊNCIA SOCIAL – RGP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000000"/>
                </a:solidFill>
                <a:latin typeface="Arial"/>
              </a:rPr>
              <a:t>Julho/201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Brasília, agosto de 20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4"/>
          <p:cNvSpPr/>
          <p:nvPr/>
        </p:nvSpPr>
        <p:spPr>
          <a:xfrm>
            <a:off x="2063880" y="6165720"/>
            <a:ext cx="82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SRGPS – Subsecretaria do Regime Geral de Previdência So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2"/>
          <p:cNvSpPr/>
          <p:nvPr/>
        </p:nvSpPr>
        <p:spPr>
          <a:xfrm>
            <a:off x="334800" y="692280"/>
            <a:ext cx="10801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RESULTADO DO RG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Em R$ milhões nomina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3"/>
          <p:cNvSpPr/>
          <p:nvPr/>
        </p:nvSpPr>
        <p:spPr>
          <a:xfrm>
            <a:off x="334800" y="648828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Arial"/>
              </a:rPr>
              <a:t>Fonte: Fluxo de Caixa INSS; Informar/DATAPREV.  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Arial"/>
              </a:rPr>
              <a:t>Nota: O dado de Renúncia Previdenciária é uma estimativa da Receita Federal do Brasil, sujeito a alteração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Imagem 1" descr=""/>
          <p:cNvPicPr/>
          <p:nvPr/>
        </p:nvPicPr>
        <p:blipFill>
          <a:blip r:embed="rId1"/>
          <a:stretch/>
        </p:blipFill>
        <p:spPr>
          <a:xfrm>
            <a:off x="334800" y="1268280"/>
            <a:ext cx="10801440" cy="522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2"/>
          <p:cNvSpPr/>
          <p:nvPr/>
        </p:nvSpPr>
        <p:spPr>
          <a:xfrm>
            <a:off x="1523880" y="765000"/>
            <a:ext cx="9144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RESULTADO DO RG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Acumulado nos últimos 12 meses - Em R$ milhões de Julho de 2017 (INP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3"/>
          <p:cNvSpPr/>
          <p:nvPr/>
        </p:nvSpPr>
        <p:spPr>
          <a:xfrm>
            <a:off x="351000" y="6469200"/>
            <a:ext cx="556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Imagem 1" descr=""/>
          <p:cNvPicPr/>
          <p:nvPr/>
        </p:nvPicPr>
        <p:blipFill>
          <a:blip r:embed="rId1"/>
          <a:stretch/>
        </p:blipFill>
        <p:spPr>
          <a:xfrm>
            <a:off x="351000" y="1484280"/>
            <a:ext cx="10785240" cy="498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2"/>
          <p:cNvSpPr/>
          <p:nvPr/>
        </p:nvSpPr>
        <p:spPr>
          <a:xfrm>
            <a:off x="334800" y="731880"/>
            <a:ext cx="108014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RESULTADO DO RG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Acumulado nos últimos 12 meses - Em R$ milhões nomina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3"/>
          <p:cNvSpPr/>
          <p:nvPr/>
        </p:nvSpPr>
        <p:spPr>
          <a:xfrm>
            <a:off x="263520" y="6483240"/>
            <a:ext cx="556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Imagem 1" descr=""/>
          <p:cNvPicPr/>
          <p:nvPr/>
        </p:nvPicPr>
        <p:blipFill>
          <a:blip r:embed="rId1"/>
          <a:stretch/>
        </p:blipFill>
        <p:spPr>
          <a:xfrm>
            <a:off x="334800" y="1450800"/>
            <a:ext cx="10801440" cy="503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2"/>
          <p:cNvSpPr/>
          <p:nvPr/>
        </p:nvSpPr>
        <p:spPr>
          <a:xfrm>
            <a:off x="1560600" y="1052640"/>
            <a:ext cx="91440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ARRECADAÇÃO LÍQUIDA,  DESPESA COM BENEFÍCIOS E RESULTADO PREVIDENCIÁRI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URBA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2"/>
          <p:cNvSpPr/>
          <p:nvPr/>
        </p:nvSpPr>
        <p:spPr>
          <a:xfrm>
            <a:off x="285840" y="836640"/>
            <a:ext cx="108504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6000"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Arrecadação Líquida, Despesa com Benefícios e Resultado Previdenciário – </a:t>
            </a:r>
            <a:r>
              <a:rPr b="1" lang="pt-BR" sz="1600" spc="-1" strike="noStrike" u="sng">
                <a:solidFill>
                  <a:srgbClr val="cc0000"/>
                </a:solidFill>
                <a:uFillTx/>
                <a:latin typeface="Arial"/>
                <a:ea typeface="Arial Unicode MS"/>
              </a:rPr>
              <a:t>URBANO</a:t>
            </a:r>
            <a:r>
              <a:rPr b="1" lang="pt-BR" sz="18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Janeiro a Julho (2016 e 2017) – Em R$ milhões de Julho/2017 (INP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3"/>
          <p:cNvSpPr/>
          <p:nvPr/>
        </p:nvSpPr>
        <p:spPr>
          <a:xfrm>
            <a:off x="285840" y="6464160"/>
            <a:ext cx="57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Arial"/>
              </a:rPr>
              <a:t>Fonte: Fluxo de Caixa INSS; Informar/DATAPREV.  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Arial"/>
              </a:rPr>
              <a:t>Nota: O dado de Renúncia Previdenciária é uma estimativa da Receita Federal do Brasil, sujeito a alteração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Imagem 1" descr=""/>
          <p:cNvPicPr/>
          <p:nvPr/>
        </p:nvPicPr>
        <p:blipFill>
          <a:blip r:embed="rId1"/>
          <a:stretch/>
        </p:blipFill>
        <p:spPr>
          <a:xfrm>
            <a:off x="301680" y="1413000"/>
            <a:ext cx="10834560" cy="50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2"/>
          <p:cNvSpPr/>
          <p:nvPr/>
        </p:nvSpPr>
        <p:spPr>
          <a:xfrm>
            <a:off x="334800" y="765000"/>
            <a:ext cx="107301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0000"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Arrecadação Líquida, Despesa com Benefícios e Resultado Previdenciário – </a:t>
            </a:r>
            <a:r>
              <a:rPr b="1" lang="pt-BR" sz="1600" spc="-1" strike="noStrike" u="sng">
                <a:solidFill>
                  <a:srgbClr val="cc0000"/>
                </a:solidFill>
                <a:uFillTx/>
                <a:latin typeface="Arial"/>
                <a:ea typeface="Arial Unicode MS"/>
              </a:rPr>
              <a:t>URBANO</a:t>
            </a:r>
            <a:r>
              <a:rPr b="1" lang="pt-BR" sz="16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Janeiro a Julho (2016 e 2017) – Em R$ milhões nomina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3"/>
          <p:cNvSpPr/>
          <p:nvPr/>
        </p:nvSpPr>
        <p:spPr>
          <a:xfrm>
            <a:off x="334800" y="648828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Arial"/>
              </a:rPr>
              <a:t>Fonte: Fluxo de Caixa INSS; Informar/DATAPREV.  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Arial"/>
              </a:rPr>
              <a:t>Nota: O dado de Renúncia Previdenciária é uma estimativa da Receita Federal do Brasil, sujeito a alteração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Imagem 1" descr=""/>
          <p:cNvPicPr/>
          <p:nvPr/>
        </p:nvPicPr>
        <p:blipFill>
          <a:blip r:embed="rId1"/>
          <a:stretch/>
        </p:blipFill>
        <p:spPr>
          <a:xfrm>
            <a:off x="334800" y="1270080"/>
            <a:ext cx="10801440" cy="52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2"/>
          <p:cNvSpPr/>
          <p:nvPr/>
        </p:nvSpPr>
        <p:spPr>
          <a:xfrm>
            <a:off x="1560600" y="1052640"/>
            <a:ext cx="91440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ARRECADAÇÃO LÍQUIDA,  DESPESA COM BENEFÍCIOS E RESULTADO PREVIDENCIÁRI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RU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2"/>
          <p:cNvSpPr/>
          <p:nvPr/>
        </p:nvSpPr>
        <p:spPr>
          <a:xfrm>
            <a:off x="334800" y="765000"/>
            <a:ext cx="10801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Arrecadação Líquida, Despesa com Benefícios e Resultado Previdenciários – </a:t>
            </a:r>
            <a:r>
              <a:rPr b="1" lang="pt-BR" sz="1600" spc="-1" strike="noStrike" u="sng">
                <a:solidFill>
                  <a:srgbClr val="cc0000"/>
                </a:solidFill>
                <a:uFillTx/>
                <a:latin typeface="Arial"/>
                <a:ea typeface="Arial Unicode MS"/>
              </a:rPr>
              <a:t>RURAL</a:t>
            </a:r>
            <a:r>
              <a:rPr b="1" lang="pt-BR" sz="18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Janeiro a Julho (2016 e 2017) – Em R$ milhões de Julho/2017 (INP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3"/>
          <p:cNvSpPr/>
          <p:nvPr/>
        </p:nvSpPr>
        <p:spPr>
          <a:xfrm>
            <a:off x="334800" y="6337440"/>
            <a:ext cx="57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Arial"/>
              </a:rPr>
              <a:t>Fonte: Fluxo de Caixa INSS; Informar/DATAPREV.  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Arial"/>
              </a:rPr>
              <a:t>Nota: O dado de Renúncia Previdenciária é uma estimativa da Receita Federal do Brasil, sujeito a alteração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Imagem 1" descr=""/>
          <p:cNvPicPr/>
          <p:nvPr/>
        </p:nvPicPr>
        <p:blipFill>
          <a:blip r:embed="rId1"/>
          <a:stretch/>
        </p:blipFill>
        <p:spPr>
          <a:xfrm>
            <a:off x="334800" y="1338120"/>
            <a:ext cx="10801440" cy="50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2"/>
          <p:cNvSpPr/>
          <p:nvPr/>
        </p:nvSpPr>
        <p:spPr>
          <a:xfrm>
            <a:off x="1523880" y="836640"/>
            <a:ext cx="914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4000"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Arrecadação Líquida, Despesa com Benefícios e Resultado Previdenciários – </a:t>
            </a:r>
            <a:r>
              <a:rPr b="1" lang="pt-BR" sz="1600" spc="-1" strike="noStrike" u="sng">
                <a:solidFill>
                  <a:srgbClr val="cc0000"/>
                </a:solidFill>
                <a:uFillTx/>
                <a:latin typeface="Arial"/>
                <a:ea typeface="Arial Unicode MS"/>
              </a:rPr>
              <a:t>RURAL</a:t>
            </a:r>
            <a:r>
              <a:rPr b="1" lang="pt-BR" sz="16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Janeiro e Julho (2016 e 2017) – Em R$ milhões nomina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3"/>
          <p:cNvSpPr/>
          <p:nvPr/>
        </p:nvSpPr>
        <p:spPr>
          <a:xfrm>
            <a:off x="334800" y="648828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Arial"/>
              </a:rPr>
              <a:t>Fonte: Fluxo de Caixa INSS; Informar/DATAPREV.  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Arial"/>
              </a:rPr>
              <a:t>Nota: O dado de Renúncia Previdenciária é uma estimativa da Receita Federal do Brasil, sujeito a alteração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Imagem 1" descr=""/>
          <p:cNvPicPr/>
          <p:nvPr/>
        </p:nvPicPr>
        <p:blipFill>
          <a:blip r:embed="rId1"/>
          <a:stretch/>
        </p:blipFill>
        <p:spPr>
          <a:xfrm>
            <a:off x="334800" y="1535040"/>
            <a:ext cx="1080144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2"/>
          <p:cNvSpPr/>
          <p:nvPr/>
        </p:nvSpPr>
        <p:spPr>
          <a:xfrm>
            <a:off x="1523880" y="981000"/>
            <a:ext cx="914400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000000"/>
                </a:solidFill>
                <a:latin typeface="Arial"/>
                <a:ea typeface="Arial Unicode MS"/>
              </a:rPr>
              <a:t>RESULTADO DO RGP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2"/>
          <p:cNvSpPr/>
          <p:nvPr/>
        </p:nvSpPr>
        <p:spPr>
          <a:xfrm>
            <a:off x="334800" y="698400"/>
            <a:ext cx="108014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RESULTADO DO RG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Em R$ milhões de Julho de 2017 (INP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3"/>
          <p:cNvSpPr/>
          <p:nvPr/>
        </p:nvSpPr>
        <p:spPr>
          <a:xfrm>
            <a:off x="312840" y="6454800"/>
            <a:ext cx="57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Arial"/>
              </a:rPr>
              <a:t>Fonte: Fluxo de Caixa INSS; Informar/DATAPREV.  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Arial"/>
              </a:rPr>
              <a:t>Nota: O dado de Renúncia Previdenciária é uma estimativa da Receita Federal do Brasil, sujeito a alteração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Imagem 1" descr=""/>
          <p:cNvPicPr/>
          <p:nvPr/>
        </p:nvPicPr>
        <p:blipFill>
          <a:blip r:embed="rId1"/>
          <a:stretch/>
        </p:blipFill>
        <p:spPr>
          <a:xfrm>
            <a:off x="334800" y="1417680"/>
            <a:ext cx="10801440" cy="5106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12T16:57:42Z</dcterms:created>
  <dc:creator>46163212134</dc:creator>
  <dc:description/>
  <dc:language>en-US</dc:language>
  <cp:lastModifiedBy>Zila de Jesus de Oliveira - MPS</cp:lastModifiedBy>
  <cp:lastPrinted>2017-01-26T10:42:46Z</cp:lastPrinted>
  <dcterms:modified xsi:type="dcterms:W3CDTF">2017-08-23T18:41:30Z</dcterms:modified>
  <cp:revision>430</cp:revision>
  <dc:subject/>
  <dc:title>Demografia</dc:title>
</cp:coreProperties>
</file>